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2CD-7E93-4DD8-B5CA-2A646370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DE6-140F-44D6-BFA8-A1C7CF6A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DB4-5D1B-429B-9058-CDBD0915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C90-248D-492E-A153-76F69803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B747-6F57-4306-AA93-DCC75851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BE53-D9A6-4247-ABF0-C26EEBF1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0740-105D-42CA-AFB6-88147ED6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E2AF-1B6F-4837-8842-33603533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EA28-5958-4685-A770-1C793C37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15EF-B77E-497A-8D47-6D6A5C25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570C-8E85-45AF-87B1-F0A15216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9BE-461F-4912-B04C-B89FA8A5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4910-07CB-4D89-9221-A3DC141C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1943-43A6-4000-ADD9-52E78AA9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6B3A-99D4-40FD-89D3-F4AECCFB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1426-9FD9-4748-B607-AA1DF884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CF9A-7ACD-4324-B058-7244163B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178-8DAC-43C0-B5CB-66798E11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EA6-9D1D-478C-8151-5B13FE9D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90B-3759-43DF-BCFC-A0085116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64F-0C63-42C1-A77F-7AF1CCDA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149-9487-4B38-BF2F-E65AE164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528-7023-473E-B1ED-5E92DB6E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C57-16B9-4588-9000-2DB29FC8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4EAD-4BC8-4F9A-9BC0-C5826CAA2E21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17CD-EC89-41C3-A15B-12B856358C18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a3d7a"/>
                </a:solidFill>
                <a:latin typeface="Times New Roman"/>
              </a:rPr>
              <a:t>Средства деловой графики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79640" y="43657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b5249"/>
                </a:solidFill>
                <a:latin typeface="Times New Roman"/>
              </a:rPr>
              <a:t>Построение диаграмм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908000" y="4365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b5249"/>
                </a:solidFill>
                <a:latin typeface="Times New Roman"/>
              </a:rPr>
              <a:t>Построение диаграмм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2a3d7a"/>
                </a:solidFill>
                <a:latin typeface="Times New Roman"/>
              </a:rPr>
              <a:t>Гистограмма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533520" y="1828800"/>
          <a:ext cx="4495680" cy="39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449568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Используется для выражения соотношения различных видов данных, не связанных функциональной зависимостью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2a3d7a"/>
                </a:solidFill>
                <a:latin typeface="Times New Roman"/>
              </a:rPr>
              <a:t>График функции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298440" y="2058840"/>
          <a:ext cx="4583160" cy="42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2058840"/>
                    <a:ext cx="4583160" cy="42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Функция задается таблицей из двух столбцов: левый – значения аргумента, правый – значение функц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а одной диаграмме может быть представлено несколько функций одного аргумент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a3d7a"/>
                </a:solidFill>
                <a:latin typeface="Times New Roman"/>
              </a:rPr>
              <a:t>Круговая диаграмма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533520" y="2133720"/>
          <a:ext cx="4495680" cy="32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449568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редставляет данные одной строки (столбца) таблицы, показывая долю значения каждой ячейки в общей сумме данных строки (столбца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аждый сектор диаграммы соответствует данным одной ячейк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76464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Большинство диаграмм строятся в прямоугольной системе координат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7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По горизонтальной оси Х откладываются значения независимой переменной (АРГУМЕНТА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7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По вертикальной оси </a:t>
            </a: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  - значения зависимой переменной (ФУНКЦИИ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7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На один рисунок может быть выведено одновременно несколько диаграмм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При графической обработке числовой информации с помощью электронных таблиц следует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Указать область данных (интервал, диапазон), по которым будет строиться диаграмм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пределить последовательность  выбора данных ( по строкам или по столбцам) из выбранного интервала ячее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691920"/>
            <a:ext cx="777240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ри выборе по столбцам Х-координаты берутся из крайнего левого столбца выделенного интервала  ячеек. Остальные столбцы содержат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- координаты  диаграмм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ри выборе по строкам самая верхняя строка выделенного интервала ячеек является строкой Х-координат, остальные строки содержат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-координат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0" y="765000"/>
          <a:ext cx="9144000" cy="609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5000"/>
                    <a:ext cx="91440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6"/>
          <p:cNvSpPr/>
          <p:nvPr/>
        </p:nvSpPr>
        <p:spPr>
          <a:xfrm>
            <a:off x="1042920" y="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0043c"/>
                </a:solidFill>
                <a:latin typeface="Times New Roman"/>
              </a:rPr>
              <a:t>Ряды в столбцах для задачи про озера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123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1042920" y="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0043c"/>
                </a:solidFill>
                <a:latin typeface="Times New Roman"/>
              </a:rPr>
              <a:t>Ряды в строках для задачи про озера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549360"/>
            <a:ext cx="77724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Создать диаграмму или график легче всего с помощью МАСТЕРА ДИАГРАММ. Это функция </a:t>
            </a: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EXCEL,</a:t>
            </a: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 которая с помощью диалоговых окон позволяет получить всю необходимую информацию для построения диаграммы или графика и внедрения его в рабочий лис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012000" y="4221000"/>
            <a:ext cx="1639800" cy="1589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403280" y="5300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нопка Мастера диаграмм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Упражнение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Графически представить данны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900000" y="2611440"/>
            <a:ext cx="7704360" cy="15638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755640" y="4653000"/>
            <a:ext cx="7920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анные ввести самостоятельно, используя описанную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ехнологию  выполнения  работы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, начиная с пункта </a:t>
            </a:r>
            <a:r>
              <a:rPr b="0" lang="ru-RU" sz="4000" spc="-1" strike="noStrike">
                <a:solidFill>
                  <a:srgbClr val="a0043c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143000" y="762120"/>
            <a:ext cx="7696080" cy="44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В настоящее время очень быстро развивается одна из областей применения компьютеров – визуализация информации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Построение диаграмм – одно из основных средств деловой графики</a:t>
            </a: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Если все сделано верно, то у Вас получится примерно следующее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-108000" y="2144880"/>
          <a:ext cx="9468000" cy="409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2144880"/>
                    <a:ext cx="946800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ровести исследование в классе по одной из следующих тем и построить круговую диаграмму вручную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4400" indent="-144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омашние животны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4400" indent="-144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Любимое время года учеников  класс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4400" indent="-144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Цвет глаз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1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772400" cy="62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5249"/>
                </a:solidFill>
                <a:latin typeface="Times New Roman"/>
              </a:rPr>
              <a:t>Выполнив </a:t>
            </a:r>
            <a:br>
              <a:rPr sz="4400"/>
            </a:br>
            <a:r>
              <a:rPr b="0" lang="ru-RU" sz="4400" spc="-1" strike="noStrike">
                <a:solidFill>
                  <a:srgbClr val="5b5249"/>
                </a:solidFill>
                <a:latin typeface="Times New Roman"/>
              </a:rPr>
              <a:t>упражнения </a:t>
            </a:r>
            <a:r>
              <a:rPr b="0" lang="ru-RU" sz="4400" spc="-1" strike="noStrike">
                <a:solidFill>
                  <a:srgbClr val="a0043c"/>
                </a:solidFill>
                <a:latin typeface="Times New Roman"/>
              </a:rPr>
              <a:t>2</a:t>
            </a:r>
            <a:r>
              <a:rPr b="0" lang="ru-RU" sz="4400" spc="-1" strike="noStrike">
                <a:solidFill>
                  <a:srgbClr val="5b5249"/>
                </a:solidFill>
                <a:latin typeface="Times New Roman"/>
              </a:rPr>
              <a:t> и </a:t>
            </a:r>
            <a:r>
              <a:rPr b="0" lang="ru-RU" sz="4400" spc="-1" strike="noStrike">
                <a:solidFill>
                  <a:srgbClr val="a0043c"/>
                </a:solidFill>
                <a:latin typeface="Times New Roman"/>
              </a:rPr>
              <a:t>3</a:t>
            </a:r>
            <a:r>
              <a:rPr b="0" lang="ru-RU" sz="4400" spc="-1" strike="noStrike">
                <a:solidFill>
                  <a:srgbClr val="5b5249"/>
                </a:solidFill>
                <a:latin typeface="Times New Roman"/>
              </a:rPr>
              <a:t>, вы научитесь изменять размеры диаграмм, редактировать их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5249"/>
                </a:solidFill>
                <a:latin typeface="Times New Roman"/>
              </a:rPr>
              <a:t>Задания для закрепления и самостоятельной работы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0043c"/>
                </a:solidFill>
                <a:latin typeface="Times New Roman"/>
              </a:rPr>
              <a:t>Задание 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0043c"/>
                </a:solidFill>
                <a:latin typeface="Times New Roman"/>
              </a:rPr>
              <a:t>Задание 2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Диктан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043c"/>
                </a:solidFill>
                <a:latin typeface="Times New Roman"/>
              </a:rPr>
              <a:t>Вопрос 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редство наглядного графического изображения информации, предназначенное  для сравнения нескольких величин или нескольких значений одной величины, а также слежения за изменением их значений – это 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043c"/>
                </a:solidFill>
                <a:latin typeface="Times New Roman"/>
              </a:rPr>
              <a:t>Вопрос 2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При построении диаграммы используется  …. система координа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282680" y="105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Диктан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043c"/>
                </a:solidFill>
                <a:latin typeface="Times New Roman"/>
              </a:rPr>
              <a:t>Вопрос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Независимая переменная (аргумент) откладывается по оси 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Диктан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043c"/>
                </a:solidFill>
                <a:latin typeface="Times New Roman"/>
              </a:rPr>
              <a:t>Вопрос 4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Значения зависимой переменной (функции)  откладываются по оси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Диктан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043c"/>
                </a:solidFill>
                <a:latin typeface="Times New Roman"/>
              </a:rPr>
              <a:t>Вопрос 5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рямоугольник на диаграмме, состоящий из условного обозначения и названия рядов данных называется 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Диктан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043c"/>
                </a:solidFill>
                <a:latin typeface="Times New Roman"/>
              </a:rPr>
              <a:t>Вопрос 6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ля редактирования  элемента диаграммы его необходимо 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Диктан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тветы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опрос 1 – </a:t>
            </a:r>
            <a:r>
              <a:rPr b="0" lang="ru-RU" sz="3200" spc="-1" strike="noStrike">
                <a:solidFill>
                  <a:srgbClr val="a00431"/>
                </a:solidFill>
                <a:latin typeface="Times New Roman"/>
              </a:rPr>
              <a:t>Диаграмм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опрос2 – </a:t>
            </a:r>
            <a:r>
              <a:rPr b="0" lang="ru-RU" sz="3200" spc="-1" strike="noStrike">
                <a:solidFill>
                  <a:srgbClr val="a0043c"/>
                </a:solidFill>
                <a:latin typeface="Times New Roman"/>
              </a:rPr>
              <a:t>прямоугольная система координа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опрос 3 –  </a:t>
            </a:r>
            <a:r>
              <a:rPr b="0" lang="ru-RU" sz="3200" spc="-1" strike="noStrike">
                <a:solidFill>
                  <a:srgbClr val="a0043c"/>
                </a:solidFill>
                <a:latin typeface="Times New Roman"/>
              </a:rPr>
              <a:t>по оси Х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опрос 4 – </a:t>
            </a:r>
            <a:r>
              <a:rPr b="0" lang="ru-RU" sz="3200" spc="-1" strike="noStrike">
                <a:solidFill>
                  <a:srgbClr val="a0043c"/>
                </a:solidFill>
                <a:latin typeface="Times New Roman"/>
              </a:rPr>
              <a:t>по оси 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опрос 5 – </a:t>
            </a:r>
            <a:r>
              <a:rPr b="0" lang="ru-RU" sz="3200" spc="-1" strike="noStrike">
                <a:solidFill>
                  <a:srgbClr val="a0043c"/>
                </a:solidFill>
                <a:latin typeface="Times New Roman"/>
              </a:rPr>
              <a:t>легенда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опрос 6 – </a:t>
            </a:r>
            <a:r>
              <a:rPr b="0" lang="ru-RU" sz="3200" spc="-1" strike="noStrike">
                <a:solidFill>
                  <a:srgbClr val="a0043c"/>
                </a:solidFill>
                <a:latin typeface="Times New Roman"/>
              </a:rPr>
              <a:t>элемент необходимо выделит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19320" y="1447920"/>
            <a:ext cx="73152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0043c"/>
                </a:solidFill>
                <a:latin typeface="Times New Roman"/>
              </a:rPr>
              <a:t>Диаграмма</a:t>
            </a:r>
            <a:r>
              <a:rPr b="0" lang="ru-RU" sz="4400" spc="-1" strike="noStrike">
                <a:solidFill>
                  <a:srgbClr val="5b5249"/>
                </a:solidFill>
                <a:latin typeface="Times New Roman"/>
              </a:rPr>
              <a:t> –</a:t>
            </a: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это средство наглядного графического изображения информации, предназначенное  для сравнения нескольких величин или нескольких значений одной величины, а также слежения за изменением их значений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914400" y="304920"/>
            <a:ext cx="792468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В деловой, финансовой, экономической сферах роль диаграммы очень велика. Пусть получены в виде таблицы данные о работе 15-20 подразделений фирмы, включающие 10 показателей для каждого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колько же времени должен затратить экономист фирмы, выискивая в таблице минимальное и максимальное значение различных показателей, выявляя соотношения этих значений для разных подразделений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одобный анализ многократно упрощается  при наличии диаграмм и графиков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066680" y="1295280"/>
            <a:ext cx="746784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0a09"/>
                </a:solidFill>
                <a:latin typeface="Times New Roman"/>
                <a:ea typeface="Times New Roman"/>
              </a:rPr>
              <a:t>Найти глубину самого мелкого озера, площадь самого обширного озера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По таблице или по диаграмме проще найти ответ на вопрос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0a0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617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835280" y="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0043c"/>
                </a:solidFill>
                <a:latin typeface="Times New Roman"/>
              </a:rPr>
              <a:t>По таблице?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123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2195640" y="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0043c"/>
                </a:solidFill>
                <a:latin typeface="Times New Roman"/>
              </a:rPr>
              <a:t>Или по диаграмме?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ЭЛЕМЕНТЫ ДИАГРАММ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985080" cy="391176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5"/>
          <p:cNvSpPr/>
          <p:nvPr/>
        </p:nvSpPr>
        <p:spPr>
          <a:xfrm>
            <a:off x="6804000" y="1268280"/>
            <a:ext cx="1638360" cy="792360"/>
          </a:xfrm>
          <a:prstGeom prst="borderCallout2">
            <a:avLst>
              <a:gd name="adj1" fmla="val 18750"/>
              <a:gd name="adj2" fmla="val -8333"/>
              <a:gd name="adj3" fmla="val 14430"/>
              <a:gd name="adj4" fmla="val -41083"/>
              <a:gd name="adj5" fmla="val 81763"/>
              <a:gd name="adj6" fmla="val -79069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Область построения диаграммы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3639960" y="1082520"/>
            <a:ext cx="13636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587"/>
              <a:gd name="adj5" fmla="val 207814"/>
              <a:gd name="adj6" fmla="val -95342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Область диаграммы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8248680" y="2738520"/>
            <a:ext cx="914400" cy="403200"/>
          </a:xfrm>
          <a:prstGeom prst="borderCallout2">
            <a:avLst>
              <a:gd name="adj1" fmla="val 18750"/>
              <a:gd name="adj2" fmla="val -8333"/>
              <a:gd name="adj3" fmla="val 28347"/>
              <a:gd name="adj4" fmla="val -8333"/>
              <a:gd name="adj5" fmla="val 278347"/>
              <a:gd name="adj6" fmla="val -79166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легенда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7095960" y="5978520"/>
            <a:ext cx="12211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240"/>
              <a:gd name="adj5" fmla="val -99217"/>
              <a:gd name="adj6" fmla="val -94666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Ось категорий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0" y="5589720"/>
            <a:ext cx="1135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06712"/>
              <a:gd name="adj5" fmla="val -70833"/>
              <a:gd name="adj6" fmla="val 17440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Ось значений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3639960" y="403560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8333"/>
              <a:gd name="adj5" fmla="val 160416"/>
              <a:gd name="adj6" fmla="val -71356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Подписи данных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a3d7a"/>
                </a:solidFill>
                <a:latin typeface="Times New Roman"/>
              </a:rPr>
              <a:t>ОСНОВНЫЕ ВИДЫ ДИАГРАММ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5:59:10Z</dcterms:created>
  <dc:creator>11</dc:creator>
  <dc:description/>
  <dc:language>en-US</dc:language>
  <cp:lastModifiedBy>1</cp:lastModifiedBy>
  <dcterms:modified xsi:type="dcterms:W3CDTF">2015-03-21T07:44:21Z</dcterms:modified>
  <cp:revision>8</cp:revision>
  <dc:subject/>
  <dc:title>Диаграммы в текстовом документе</dc:title>
</cp:coreProperties>
</file>